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E7128-BD04-4661-8470-419E65CB2D0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DB6DC-6FE3-4FBA-AD1C-98B0B338BF6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A74AE-8841-48F9-B04B-71DF4F3179C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7BC6F-73FB-4157-B704-26553513458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DC20F-EBAC-4535-A6F5-3848CC4F629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A4EFD-A18D-4986-92EE-6A12ACE0B1B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C930B-33ED-4822-87F6-3A59CE932C0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9415B-1474-4394-9549-D21494BE6E9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618C-2A9F-45C0-908E-703818CDA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EA50-FAF5-4269-860D-2957641DA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5EA9-CF95-451E-850F-C1C284A1B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23A2-340A-4EB8-B808-25EFE9BD9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275BF-B730-4CA2-9AAF-795B49785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A67C4-0F0B-4A3D-8663-A8E9AD11A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CD3DE-BD1D-4532-B755-1DFE3260D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49A9F-467F-4312-952F-826DF3553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63BB1-0201-4DEA-B5C7-91B99614B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97D99-BA37-4812-A4D4-1C6BA2481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F5291-5BD1-4C88-98C4-9A90C7F1B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3596-9834-4000-9C3A-05F305A46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B132B-57EE-46FE-893C-8DAFD5C4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ADC38-41FB-487F-8825-3535B86CC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16675-5FF5-43DE-9567-E6DF42CB0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0DB5A-F1D1-426C-8A97-BAE9B25E2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14355-0C4C-48B7-9242-59D8662B4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BD67-D51B-4DEB-8D4F-0AB459E49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C65A-5587-45DF-8AA1-FD1101B75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F670-C65A-4725-9FF0-3BBFD9C9C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136B-26C8-4DEC-8518-ADBB5B739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3DCC-8D71-4AB0-93FD-6D7B6383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31F3-A927-4FD9-9818-7F9ACA3D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1F78-06D5-426E-A3DF-7E479BAC1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C536B-7666-446F-8DA8-42E61F8815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prstGeom prst="pie">
                <a:avLst/>
              </a:pr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earth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195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197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prstGeom prst="pie">
                <a:avLst/>
              </a:pr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199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56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268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Picture 91" descr="earth"/>
            <p:cNvPicPr/>
            <p:nvPr/>
          </p:nvPicPr>
          <p:blipFill>
            <a:blip r:embed="rId2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BB709-B73C-4007-890B-8FE8E0E8CD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Verbes s en R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bes réguliers et irréguli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cc6600"/>
                </a:solidFill>
                <a:latin typeface="Times New Roman"/>
              </a:rPr>
              <a:t>Pratiquons! – Rond 2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2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1 – vous / promett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2 – je / sour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3 – il / détru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4 – tu / perd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5 – nous / produ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6 – ils /mett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cc6600"/>
                </a:solidFill>
                <a:latin typeface="Times New Roman"/>
              </a:rPr>
              <a:t>Pratiquons! – Rond 3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2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1 – vous / constru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2 – je / permett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3 – il / sour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4 – tu / condu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5 – nous / répond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6 – ils /r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cc6600"/>
                </a:solidFill>
                <a:latin typeface="Times New Roman"/>
              </a:rPr>
              <a:t>Les verbes -r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es verbes comme </a:t>
            </a: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vendre 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son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escendr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erd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Rend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rendre visite à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Répondr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cc6600"/>
                </a:solidFill>
                <a:latin typeface="Times New Roman"/>
              </a:rPr>
              <a:t>Les verbes RE irréguliers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es verbes comme </a:t>
            </a: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mettre 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son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romett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ermettr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cc6600"/>
                </a:solidFill>
                <a:latin typeface="Times New Roman"/>
              </a:rPr>
              <a:t>Les verbes irréguliers –RE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es verbes comme </a:t>
            </a: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conduire 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son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Tradu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rodu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étruir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cc6600"/>
                </a:solidFill>
                <a:latin typeface="Times New Roman"/>
              </a:rPr>
              <a:t>Les verbes irréguliers  –RE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es verbes comme </a:t>
            </a: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rire 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sour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cc6600"/>
                </a:solidFill>
                <a:latin typeface="Times New Roman"/>
              </a:rPr>
              <a:t>Pratiquons!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2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Mettez-vous en groupe de 3 ou 4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Formez vos group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renez un tableau par grou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artagez-vous les cart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cc6600"/>
                </a:solidFill>
                <a:latin typeface="Times New Roman"/>
              </a:rPr>
              <a:t>Pratiquons!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Maintenant, je vais jouer de la musiqu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endant que je joue la musique, vous devez passer la carte que vous avez à la personne à droi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Quand j’arrête la musique, je vais annoncer un numér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a personne avec cette carte doit écrire la conjugaison sur le tableau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e groupe avec la réponse correcte, gagne un poi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cc6600"/>
                </a:solidFill>
                <a:latin typeface="Times New Roman"/>
              </a:rPr>
              <a:t>Pratiquons!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Vous avez compri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Allons-y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cc6600"/>
                </a:solidFill>
                <a:latin typeface="Times New Roman"/>
              </a:rPr>
              <a:t>Pratiquons! – Rond 1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2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1 – nous / vend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2 – tu / condu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3 – ils / r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4 – on / mett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5 – vous / tradu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6 – je /attend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00:08:49Z</dcterms:created>
  <dc:creator>Mr. Smith</dc:creator>
  <dc:description/>
  <dc:language>en-US</dc:language>
  <cp:lastModifiedBy>Viviane Grebert</cp:lastModifiedBy>
  <dcterms:modified xsi:type="dcterms:W3CDTF">2011-12-06T22:04:08Z</dcterms:modified>
  <cp:revision>90</cp:revision>
  <dc:subject/>
  <dc:title>Allez, viens! – Level 2</dc:title>
</cp:coreProperties>
</file>